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333333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2003, Title of Presentation, Speaker Name </a:t>
            </a: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</a:t>
            </a:r>
            <a:fld id="{2F76A5A9-44F3-4D42-B3BA-6ABA01494E40}" type="slidenum">
              <a:rPr b="0" lang="en-US" sz="7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2280" algn="ctr"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12760" algn="ctr">
              <a:spcBef>
                <a:spcPts val="349"/>
              </a:spcBef>
              <a:spcAft>
                <a:spcPts val="88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05120" y="0"/>
            <a:ext cx="6338880" cy="3162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92000" y="361620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 Black"/>
              </a:rPr>
              <a:t>ASAP for Enterprise Portal</a:t>
            </a: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HIGH LEVEL Roadmap Description (Deliverables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90800" y="2644920"/>
            <a:ext cx="147816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29520" y="4834080"/>
            <a:ext cx="263268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Operation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857680" y="609120"/>
            <a:ext cx="3271680" cy="457200"/>
          </a:xfrm>
          <a:custGeom>
            <a:avLst/>
            <a:gdLst>
              <a:gd name="textAreaLeft" fmla="*/ 719280 w 3271680"/>
              <a:gd name="textAreaRight" fmla="*/ 2552400 w 32716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ec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Project Preparation and Business Blueprin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5280840" y="2023920"/>
            <a:ext cx="2895120" cy="7023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...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6600" y="2643120"/>
            <a:ext cx="4079880" cy="19065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6400" y="3341520"/>
            <a:ext cx="11430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e Business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Proces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elligenc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3848040"/>
            <a:ext cx="139716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3341520"/>
            <a:ext cx="10242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llaborativ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Knowledg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76440" y="3340080"/>
            <a:ext cx="115128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porat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Inform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ranet Serv. 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43080" y="3129120"/>
            <a:ext cx="2624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43040" y="2368440"/>
            <a:ext cx="0" cy="944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60640" y="3132000"/>
            <a:ext cx="0" cy="15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22200" y="3138480"/>
            <a:ext cx="12960" cy="1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75360" y="2670120"/>
            <a:ext cx="1889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72080" y="1068480"/>
            <a:ext cx="3243960" cy="33732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nterprise Strategic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716880" y="1690560"/>
            <a:ext cx="0" cy="29376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02160" y="1419120"/>
            <a:ext cx="0" cy="2811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520" y="626256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32680" y="290340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sabilty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686480" y="3575160"/>
            <a:ext cx="537840" cy="1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1280" y="3409920"/>
            <a:ext cx="2869920" cy="88488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igation/Content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61240" y="2556000"/>
            <a:ext cx="1176480" cy="121284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1212840"/>
              <a:gd name="textAreaBottom" fmla="*/ 1213200 h 121284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08920" y="2959200"/>
            <a:ext cx="9111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ock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754680" y="2746080"/>
            <a:ext cx="1800" cy="65556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4320" y="593892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5610240"/>
            <a:ext cx="973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1200" y="542916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000" y="576432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DETAI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3280" y="610380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FLUE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08440" y="732960"/>
            <a:ext cx="32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iscovery and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149720" y="4548240"/>
            <a:ext cx="1440" cy="27000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286320" y="5016600"/>
            <a:ext cx="88884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7720" y="424980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99320" y="4249800"/>
            <a:ext cx="148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Non 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95920" y="6068880"/>
            <a:ext cx="412020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ject Development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11640" y="4554000"/>
            <a:ext cx="0" cy="1000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222880" y="5173200"/>
            <a:ext cx="0" cy="352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2840" y="1023840"/>
            <a:ext cx="125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tent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mplementation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94600" y="4708440"/>
            <a:ext cx="171252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gmt.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49480" y="5554800"/>
            <a:ext cx="4079880" cy="293400"/>
          </a:xfrm>
          <a:prstGeom prst="rect">
            <a:avLst/>
          </a:prstGeom>
          <a:solidFill>
            <a:srgbClr val="f0a0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72600" y="5540400"/>
            <a:ext cx="25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rtal Solution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23240" y="5302080"/>
            <a:ext cx="495000" cy="368640"/>
          </a:xfrm>
          <a:custGeom>
            <a:avLst/>
            <a:gdLst/>
            <a:ahLst/>
            <a:rect l="l" t="t" r="r" b="b"/>
            <a:pathLst>
              <a:path w="280" h="232">
                <a:moveTo>
                  <a:pt x="280" y="0"/>
                </a:moveTo>
                <a:lnTo>
                  <a:pt x="280" y="232"/>
                </a:lnTo>
                <a:lnTo>
                  <a:pt x="0" y="232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69080" y="4332240"/>
            <a:ext cx="0" cy="1222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22880" y="5859360"/>
            <a:ext cx="0" cy="18432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7840" y="1476360"/>
            <a:ext cx="10764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5880" y="3670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7560" y="4835520"/>
            <a:ext cx="184644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ical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79560" y="5181480"/>
            <a:ext cx="1066680" cy="533520"/>
          </a:xfrm>
          <a:custGeom>
            <a:avLst/>
            <a:gdLst/>
            <a:ahLst/>
            <a:rect l="l" t="t" r="r" b="b"/>
            <a:pathLst>
              <a:path w="672" h="304">
                <a:moveTo>
                  <a:pt x="0" y="0"/>
                </a:moveTo>
                <a:lnTo>
                  <a:pt x="0" y="304"/>
                </a:lnTo>
                <a:lnTo>
                  <a:pt x="672" y="304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92160" y="4546440"/>
            <a:ext cx="0" cy="2797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50080" y="2031840"/>
            <a:ext cx="2190960" cy="307080"/>
          </a:xfrm>
          <a:prstGeom prst="rect">
            <a:avLst/>
          </a:prstGeom>
          <a:solidFill>
            <a:srgbClr val="ffeaa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ortal Content 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04760" y="676440"/>
            <a:ext cx="1633680" cy="1390320"/>
          </a:xfrm>
          <a:custGeom>
            <a:avLst/>
            <a:gdLst>
              <a:gd name="textAreaLeft" fmla="*/ 0 w 1633680"/>
              <a:gd name="textAreaRight" fmla="*/ 1634040 w 1633680"/>
              <a:gd name="textAreaTop" fmla="*/ 0 h 1390320"/>
              <a:gd name="textAreaBottom" fmla="*/ 1390320 h 139032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1695600"/>
            <a:ext cx="22096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76520" y="1695600"/>
            <a:ext cx="1924200" cy="333360"/>
          </a:xfrm>
          <a:custGeom>
            <a:avLst/>
            <a:gdLst/>
            <a:ahLst/>
            <a:rect l="l" t="t" r="r" b="b"/>
            <a:pathLst>
              <a:path w="1212" h="210">
                <a:moveTo>
                  <a:pt x="1212" y="0"/>
                </a:moveTo>
                <a:lnTo>
                  <a:pt x="0" y="0"/>
                </a:lnTo>
                <a:lnTo>
                  <a:pt x="0" y="210"/>
                </a:lnTo>
              </a:path>
            </a:pathLst>
          </a:custGeom>
          <a:noFill/>
          <a:ln w="12600">
            <a:solidFill>
              <a:srgbClr val="003366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04840" y="17114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scop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79560" y="5702400"/>
            <a:ext cx="1092240" cy="533160"/>
          </a:xfrm>
          <a:custGeom>
            <a:avLst/>
            <a:gdLst/>
            <a:ahLst/>
            <a:rect l="l" t="t" r="r" b="b"/>
            <a:pathLst>
              <a:path w="688" h="336">
                <a:moveTo>
                  <a:pt x="0" y="0"/>
                </a:moveTo>
                <a:lnTo>
                  <a:pt x="0" y="336"/>
                </a:lnTo>
                <a:lnTo>
                  <a:pt x="688" y="33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59840" y="5113440"/>
            <a:ext cx="237384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Admi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Realization and Final Preparatio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5230080" y="2633760"/>
            <a:ext cx="28951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23840" y="3168720"/>
            <a:ext cx="2692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Level Nav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ets, 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04160" y="4478400"/>
            <a:ext cx="317376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duction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05240" y="1432080"/>
            <a:ext cx="297828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anagement/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Persis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ation Proced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39680" y="2065320"/>
            <a:ext cx="2665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Implement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Source Integ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Objects,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sitories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932040"/>
            <a:ext cx="31543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i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27880" y="4313160"/>
            <a:ext cx="238428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l Confirmation an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Pre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87520" y="18414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29592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87520" y="407664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30520" y="4635360"/>
            <a:ext cx="165096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698720" y="30862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730920" y="483876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56080" y="1892160"/>
            <a:ext cx="1650960" cy="2565720"/>
          </a:xfrm>
          <a:custGeom>
            <a:avLst/>
            <a:gdLst/>
            <a:ahLst/>
            <a:rect l="l" t="t" r="r" b="b"/>
            <a:pathLst>
              <a:path w="1040" h="1616">
                <a:moveTo>
                  <a:pt x="1040" y="0"/>
                </a:moveTo>
                <a:lnTo>
                  <a:pt x="720" y="0"/>
                </a:lnTo>
                <a:lnTo>
                  <a:pt x="720" y="1616"/>
                </a:lnTo>
                <a:lnTo>
                  <a:pt x="0" y="161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19400" y="6078600"/>
            <a:ext cx="248796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roved System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95960" y="4826160"/>
            <a:ext cx="0" cy="12445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16400" y="4902120"/>
            <a:ext cx="0" cy="1168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50240" y="1892160"/>
            <a:ext cx="660240" cy="3530880"/>
          </a:xfrm>
          <a:custGeom>
            <a:avLst/>
            <a:gdLst/>
            <a:ahLst/>
            <a:rect l="l" t="t" r="r" b="b"/>
            <a:pathLst>
              <a:path w="416" h="2224">
                <a:moveTo>
                  <a:pt x="160" y="0"/>
                </a:moveTo>
                <a:lnTo>
                  <a:pt x="416" y="0"/>
                </a:lnTo>
                <a:lnTo>
                  <a:pt x="416" y="2224"/>
                </a:lnTo>
                <a:lnTo>
                  <a:pt x="0" y="2224"/>
                </a:lnTo>
              </a:path>
            </a:pathLst>
          </a:custGeom>
          <a:noFill/>
          <a:ln w="12600">
            <a:solidFill>
              <a:srgbClr val="003366"/>
            </a:solidFill>
            <a:prstDash val="lg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6880" y="2527200"/>
            <a:ext cx="4952880" cy="2946600"/>
          </a:xfrm>
          <a:custGeom>
            <a:avLst/>
            <a:gdLst/>
            <a:ahLst/>
            <a:rect l="l" t="t" r="r" b="b"/>
            <a:pathLst>
              <a:path w="3120" h="1856">
                <a:moveTo>
                  <a:pt x="272" y="0"/>
                </a:moveTo>
                <a:lnTo>
                  <a:pt x="0" y="0"/>
                </a:lnTo>
                <a:lnTo>
                  <a:pt x="0" y="1856"/>
                </a:lnTo>
                <a:lnTo>
                  <a:pt x="3120" y="1840"/>
                </a:lnTo>
              </a:path>
            </a:pathLst>
          </a:custGeom>
          <a:noFill/>
          <a:ln w="12600">
            <a:solidFill>
              <a:srgbClr val="003366"/>
            </a:solidFill>
            <a:prstDash val="dash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96880" y="3619440"/>
            <a:ext cx="457200" cy="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0:20:58Z</dcterms:created>
  <dc:creator>SAP</dc:creator>
  <dc:description>The presentation gives an overview of the basic conept and ideas of the EP ASAP roadmap flavor.</dc:description>
  <dc:language>en-US</dc:language>
  <cp:lastModifiedBy>d031429</cp:lastModifiedBy>
  <dcterms:modified xsi:type="dcterms:W3CDTF">2003-11-21T09:21:28Z</dcterms:modified>
  <cp:revision>117</cp:revision>
  <dc:subject/>
  <dc:title>ASAP for EP High Level Methodology</dc:title>
</cp:coreProperties>
</file>